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2DD-5D72-4723-A687-0BF62FA7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2C0-2454-4BE9-BE52-7055023D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A2A-40B9-4DA3-ABF9-12ABF516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970-71E5-460B-BD2F-101A3B0B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F1544-DF5F-4D5A-B796-A1B38BB9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2FE2C-FB69-4DD0-AADC-5F2A3730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D225E-3C3C-45AA-9B2F-8F9DC7D1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DBD9B-264F-42A1-8DD4-10D688E1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F6B07-18C2-4051-B854-4AD13F1C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7F081-5CA6-499C-B1E6-0A8D4561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38968-FE88-47AC-A46D-C636E8E1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986-44DC-426E-B0BC-AC84DE7E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76A2B-831F-41D0-BE25-C60847B4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EA776-DEC7-419A-BD83-FDC87ED6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56EEC-5D51-490B-8545-4DF5EFE4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6BF75-C7E2-43C3-B8AB-8DE9ABFC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90EBD-31CA-4864-B02C-2992A6B7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8F2-EDD4-4819-8CDE-A9F6BDA3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476-A0A2-4E34-A288-0FCFD945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69F9-494E-4A3A-8699-396570B0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132-82CD-4341-BBEE-7391CE53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368-BF0B-4526-B582-1C046DA0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97D-A54B-4F3D-81EB-23E7B532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324-8342-40B8-A3E2-76F437D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21C5-A206-4E65-B054-8DB09762E9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CFD8-2510-4021-8AC1-EB8AB02E25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gel electrophore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ppens to DNA in gel electrophore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irection does DNA move toward in gel electrophore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you compare an unknown sample to a known DNA samp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08:16Z</dcterms:created>
  <dc:creator>URI</dc:creator>
  <dc:description/>
  <dc:language>en-US</dc:language>
  <cp:lastModifiedBy>URI</cp:lastModifiedBy>
  <dcterms:modified xsi:type="dcterms:W3CDTF">2009-12-22T19:18:22Z</dcterms:modified>
  <cp:revision>2</cp:revision>
  <dc:subject/>
  <dc:title>Slide 1</dc:title>
</cp:coreProperties>
</file>